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42588-21EC-42C2-B8EE-53377C052F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1C75A-4CE4-4332-A4E7-81FDDA2F46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04771-D556-4929-8F00-8E9582E05A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137F3-CC42-47B9-AC45-86BA851D1F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iment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794D7-425C-4206-BBCB-A3715D5228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iment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026D5-78A0-48D5-9B66-087797F835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iment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7B410-2416-4C02-8787-3712896DF8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A08A-4B8C-47D9-A3CB-B6977EA98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666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2E5F-683F-475F-9CF3-8204150B7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4230-0722-4688-A10A-519DBF54C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F68A-07AA-4BAF-994F-A9317A9CA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F9C7-7FE4-4DA3-9D56-8D5244D41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1DD7-3E45-4018-884B-BA2093222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C5E7-C8A4-47B1-9154-3A69777F0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ECDD-E136-419D-B333-D683D6FF6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D7E1-4075-4193-BEF3-5F5DABC2F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EF6C-E468-4CD7-871D-E31E36D46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A72C-26AC-4556-AC52-F33DA4FDA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2508-9D1B-4BC7-A89E-A2D0C8DAD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550"/>
              </a:spcBef>
              <a:buClr>
                <a:srgbClr val="008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spcBef>
                <a:spcPts val="550"/>
              </a:spcBef>
              <a:buClr>
                <a:srgbClr val="4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2D552-3E8B-4C2F-A7A5-4A561E9D06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JECTIVES OF TODAY’S ACTIVITY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OPIC: The Water Cycle and Carbon Cyc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bf"/>
                </a:solidFill>
                <a:latin typeface="Arial"/>
              </a:rPr>
              <a:t>After today’s activity, you will be able to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550"/>
              </a:spcBef>
              <a:buClr>
                <a:srgbClr val="0000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ad"/>
                </a:solidFill>
                <a:latin typeface="Arial"/>
              </a:rPr>
              <a:t>Identify processes in the carbon cycle and water cycle that are related to each of the causal principl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550"/>
              </a:spcBef>
              <a:buClr>
                <a:srgbClr val="0000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ad"/>
                </a:solidFill>
                <a:latin typeface="Arial"/>
              </a:rPr>
              <a:t>Identify similarities and differences between the water and carbon cycl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SUAL PRINCIPLES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Gravitational energy, thermal energy and/or chemical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erg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rive all movement and change of matter on Eart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84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A system is i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quilibrium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energy in the system is balanc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84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Matter moves and changes to return a system to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quilibriu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84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erg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needed to break bonds and is released when bonds for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84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. Temperatu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 measure of the movement of molecules.  Higher temperature means molecules are moving fas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84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. When molecules move faster,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nsit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most substances decreases. Water is an anomaly because liquid water is more dense than i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84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. Buoyanc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uses materials to rise or fall due to the relative density of materia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84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. Feedback Loop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accelerate, decelerate, or dampen chan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84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495320" y="685440"/>
            <a:ext cx="40388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ad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ad"/>
                </a:solidFill>
                <a:latin typeface="Arial"/>
              </a:rPr>
              <a:t>The water cycle has places where water is stored (reservoirs), processes the move water between reservoirs (fluxes), and varying amounts of time that water remains in each reservoir (residence time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4648320" y="547524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://maps.grida.no/go/graphic/world_s_water_cycle_schematic_and_residence_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6" descr="03_water_cycle_large.jpg"/>
          <p:cNvPicPr/>
          <p:nvPr/>
        </p:nvPicPr>
        <p:blipFill>
          <a:blip r:embed="rId1"/>
          <a:stretch/>
        </p:blipFill>
        <p:spPr>
          <a:xfrm>
            <a:off x="0" y="0"/>
            <a:ext cx="4383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800240" y="-152640"/>
            <a:ext cx="3962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: Water Cycle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: Carbon Cycle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7" name="TextBox 9"/>
          <p:cNvSpPr/>
          <p:nvPr/>
        </p:nvSpPr>
        <p:spPr>
          <a:xfrm>
            <a:off x="0" y="6581880"/>
            <a:ext cx="891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ttp://resources.edb.gov.hk/biology/english/images/environment/carbon_cycle2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5" descr="carbon_cycle2.jpg"/>
          <p:cNvPicPr/>
          <p:nvPr/>
        </p:nvPicPr>
        <p:blipFill>
          <a:blip r:embed="rId1"/>
          <a:stretch/>
        </p:blipFill>
        <p:spPr>
          <a:xfrm>
            <a:off x="457200" y="609480"/>
            <a:ext cx="814716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0" y="1219320"/>
            <a:ext cx="632448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 each principle, identify corresponding processes that occur in the water cycle and carbon cycle. Do this with your work group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76320" y="3505320"/>
          <a:ext cx="8991360" cy="3365280"/>
        </p:xfrm>
        <a:graphic>
          <a:graphicData uri="http://schemas.openxmlformats.org/drawingml/2006/table">
            <a:tbl>
              <a:tblPr/>
              <a:tblGrid>
                <a:gridCol w="3030480"/>
                <a:gridCol w="2981160"/>
                <a:gridCol w="2979720"/>
              </a:tblGrid>
              <a:tr h="601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ad"/>
                          </a:solidFill>
                          <a:latin typeface="Arial"/>
                          <a:ea typeface="Cambria"/>
                        </a:rPr>
                        <a:t>Princip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ad"/>
                          </a:solidFill>
                          <a:latin typeface="Arial"/>
                          <a:ea typeface="Arial"/>
                        </a:rPr>
                        <a:t>Water Cyc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ad"/>
                          </a:solidFill>
                          <a:latin typeface="Arial"/>
                          <a:ea typeface="Cambria"/>
                        </a:rPr>
                        <a:t>Carbon Cyc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610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Gravitational, Chemical, Thermal energ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601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Equilibri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777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774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Feedba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</a:tr>
            </a:tbl>
          </a:graphicData>
        </a:graphic>
      </p:graphicFrame>
      <p:pic>
        <p:nvPicPr>
          <p:cNvPr id="61" name="Picture 6" descr="carbon_cycle2.jpg"/>
          <p:cNvPicPr/>
          <p:nvPr/>
        </p:nvPicPr>
        <p:blipFill>
          <a:blip r:embed="rId1"/>
          <a:stretch/>
        </p:blipFill>
        <p:spPr>
          <a:xfrm>
            <a:off x="6483240" y="76320"/>
            <a:ext cx="2660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oup work &amp; Homework: Cycles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63" name="Rectangle 3" descr=""/>
          <p:cNvPicPr/>
          <p:nvPr/>
        </p:nvPicPr>
        <p:blipFill>
          <a:blip r:embed="rId1"/>
          <a:stretch/>
        </p:blipFill>
        <p:spPr>
          <a:xfrm>
            <a:off x="378000" y="1212840"/>
            <a:ext cx="8540640" cy="473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1T17:32:13Z</dcterms:created>
  <dc:creator>Julie Libarkin</dc:creator>
  <dc:description/>
  <dc:language>en-US</dc:language>
  <cp:lastModifiedBy>Nicole LaDue</cp:lastModifiedBy>
  <dcterms:modified xsi:type="dcterms:W3CDTF">2010-12-21T18:31:24Z</dcterms:modified>
  <cp:revision>302</cp:revision>
  <dc:subject/>
  <dc:title>PowerPoint Presentation</dc:title>
</cp:coreProperties>
</file>